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ct" ContentType="image/x-pict"/>
  <Override PartName="/ppt/media/image9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1DB-71F7-4686-888C-95AE9928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139-7E04-4D43-BD1B-79FDCECD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AB4-D0D8-4B7D-A641-58BAB1A4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4C1-B37E-4F0A-BA18-A34F77B8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B0ED-BC7F-48F5-87E1-B5C4600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7859-EFA7-48EA-8E39-02E78AC4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8B57-AF67-4160-BBD4-DF1DE7F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08AF-A0FF-484A-8C4A-ED41152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31F-EDC3-4571-B07C-1A3BE08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9AD-6FB1-4135-B949-A47261BE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F54-C46F-49EE-BEE4-50A2C2E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525-6235-4F97-9079-570C907C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D02-4629-43A8-BC77-628A0B8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201-3017-47E0-95A2-59DE253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CC5E-6645-4085-A464-BFB3345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31C6-71BD-47CB-B9B0-D0E34DA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FE4-CAB9-4DA2-A94D-6CBA8E5C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81B-C886-45BB-9A2D-F108B6B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24A-7517-4C3F-928B-837F73C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61F-F7D9-4E32-8F9E-D67A2BC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911-AA91-4651-94A5-B1FE759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8B3-1FFD-4377-AE1C-9FC501F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744-7A9A-42D9-ADBF-FDA07E1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64C-5E31-4017-A3D6-62552E02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B48-C09D-4218-8FBF-B3A4E8FCEB9A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67F7-FA32-4BD1-81D5-B1D4046AE2C0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10000"/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ranscendentalism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nry David Thoreau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alt Whitma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Literary Term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Aphorism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a short statement of general truth or wisdom about lif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nconformis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one who does not follow generally accepted beliefs, customs or practic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brief nonfiction article that expresses an opinion on a subjec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enry David Thoreau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9807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tudent of Emerson’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onconformist who stood up for his belief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fluenced MLK Jr.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ought the simple life in a cabin in M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fluenced abolitionists and led many rallies against slave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198108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at Walden Pond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leading a “simple” life, away from the hustle and bustle of our industrially advancing societ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living by his own values, not society’s materialistic valu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Conducted an “experiment” in which he lived in a cabin he built by hand for over 2 year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ept a journal detailing his thoughts and experiences, hoping to achieve personal growth and insigh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Left the woods b/c he had more living to do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on Walden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 went to the woods because I wished to live deliberately…and not, when I came to die, discover that I had not lived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 wanted to live deep and suck out all the marrow of life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eaven is under our feet as well as over our heads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&amp; Voluntary Simplicity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fluenced many people seeking solitude who want to get away from technological &amp; material stresses and live uncluttered liv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ur life is frittered away by detail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implicity, simplicity, simplicity!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 proportion as he simplifies his life, the laws of the universe will appear less complex, and solitude will not be solitude, nor poverty poverty, nor weakness weakness.”  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Do not trouble yourself much to get new things, whether clothes or friends.”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&amp; Nonconformity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 dedicated nonconformist, he went to jail for refusing to pay a tax which indirectly supported slaver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used to wear Harvard uniform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used to punish his students physicall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surface of the earth is soft and impressible by the feet of men; and so with the paths which the mind travels.  How worn and dusty must be the highways of the word, how deep the ruts of tradition and conformity!” 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’s Motivational Words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[Advance] confidently in the direction of [your] dreams…live the life which [you] have imagined, [and you will meet with success.]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f you have built castles in the air, your work need not be lost; that is where they should be.  Now put the foundations under them…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on Living Life to the Fulles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 did not wish to take a cabin passage, but rather to go before the mast and on the deck of the world, for there I could best see the moonlight…I do not wish to go below now.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’s Critic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ome criticize Thoreau because: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People make a big deal out of his night spent in jail, but it was only one night, and only because the warden had already gone home for the nigh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e wrote about experiences in the wild, when in fact he was only 1/2 mile from town, and he frequently visited &amp; dined with friend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to Know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ks by Thoreau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Civil Disobedienc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Walde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ds to Know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Sublim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noble, majestic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Conscientious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guided by conscience; hones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Nature writing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a type of essay in which the writer uses firsthand observations to explore the mysteries of the human relationship with natur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ackground Informa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ranscendentalists: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Were Inspired by the rebellious spirit of American revolutionaries like Patrick Henry and Thomas Jefferso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lected a desire to break free from the strict principles of Puritanism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the power of nature and the human spirit, especially intuitio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alt Whitma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etry was revolutionary; didn’t follow traditional “rules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ny traditional writers and audiences found his poetry offensive because of the form and the conten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e was a patriot who loved to celebrate America and its peo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ks -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I Hear America Singing, Song of Myself,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 I Heard the Learn’d Astronomer, and I Sit and Look Ou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05440" y="1828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itman Toolbox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ds to Know: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(or structure) in poetry is the way a poem is organized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Conventional 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follows fixed rules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organic 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is irregular and mimics natural speech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Free vers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Organic form of poetry without regular patterns of rhyme and met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Repetition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recurrence of words, phrases or lin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Catalog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lists of people, things or qualiti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Parallelis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related ideas are phrased in similar way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is Transcendentalism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 philosophy that stresses the following key idea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tu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lf-Relianc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ther belief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ek renewal &amp; inspiration in natur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ople should follow their heart and not blindly follow society’s rul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Key Theme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eturn to Nature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Desire to lead “The Simple Life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Nonconformity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elebration of the Individua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niqueness of Every Human Being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Key Player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nry David Thoreau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alt Whitma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Ralph Waldo Emers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1803-1882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“Father” of the transcendentalist movemen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on of a minister, he  became one himsel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ike Poe, he suffered losses of loved on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onsidered the spiritual voice of his gener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219320" y="1905120"/>
            <a:ext cx="319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Emerson’s “Self-Reliance”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is famous essay is full of “aphorisms,” or short statements expressing a general truth about lif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ome memorable aphorism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o be great is to be misunderstood.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nvy is ignorance; imitation is suicide.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ust thyself; every heart vibrates to that iron string.”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More Aphorism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foolish consistency is the hobgoblin of little minds.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be great is to be misunderstood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Good men must not obey the laws too well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More Aphorisms 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easy in the world to live after the world’s opinion; it is easy in solitude to live after our own; but the great man is he who in the midst of the crowd keeps with perfect sweetness the independence of solitude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an you put this aphorism into your own words?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4:21:21Z</dcterms:created>
  <dc:creator>PA Department of Education</dc:creator>
  <dc:description/>
  <dc:language>en-US</dc:language>
  <cp:lastModifiedBy>PA Department of Education</cp:lastModifiedBy>
  <cp:lastPrinted>2007-05-04T15:31:16Z</cp:lastPrinted>
  <dcterms:modified xsi:type="dcterms:W3CDTF">2009-01-09T13:18:08Z</dcterms:modified>
  <cp:revision>26</cp:revision>
  <dc:subject/>
  <dc:title>Transcendentalism</dc:title>
</cp:coreProperties>
</file>